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9D8C-A77C-4869-A01F-CF4DE58538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6648-CD50-4BAB-8206-12AF04B2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B585-921B-464F-BD7A-3247EEC2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33AD-C438-48A7-BE53-D09B038952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DBFF-E768-476E-867B-1EC1EBA7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BCC1E-AEB0-4C9B-9244-8BA5FE2C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3969-64A7-46DA-AEB3-2A47C055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1A00-3530-4268-B6D1-C75DDE5E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7431-7BEF-44FE-B242-C498A4FE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F8A0-FB0F-42B5-B76F-B3820025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69EB0-0657-4D16-AA8F-A9B36EDB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F46F-ACBA-4EF7-8D5E-766FC54C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B74A-8DB6-4653-BC81-C8F446DDF2DF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06028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awk M81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Urban Activ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S25/M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50208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/ Christopher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tje H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640" y="530532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3th Jun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331AC-A5D1-45D6-A4A7-E09110F72D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00720" y="836640"/>
            <a:ext cx="4467240" cy="2299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irect R&amp;D  3’23€ (current) vs. 2’97€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R&amp;D cost deviation of 9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K deviation  2% (1,23€) (because of volume and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C decreas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25/M2 19.06.06 (current) vs.12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11.08.06 vs. DS 11.08.06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3213000"/>
            <a:ext cx="4467240" cy="21754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nor risk seen on production capacity vs. demand (in connection with Philippe overall capacity 210k/month;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wk orders: Oct 110k/Nov. 114k; Philippe: Oct. 80k/Nov. 75k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/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5445000"/>
            <a:ext cx="4467240" cy="813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           75,4€ (current, incl. 2% variant adder)  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vs. 72,6€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704" t="18238" r="60627" b="34527"/>
          <a:stretch/>
        </p:blipFill>
        <p:spPr>
          <a:xfrm>
            <a:off x="250920" y="1125360"/>
            <a:ext cx="410508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0CC6-245E-4975-81AF-22B84773FE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765000"/>
            <a:ext cx="4464000" cy="24894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,5 dB decrease on edges in PCS 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 timeline; partial de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ill poor cosmetic quality of TPE mater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lue/white variant samples very late due to late design fixing and delay in 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384720"/>
            <a:ext cx="4467240" cy="24987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9% (5,4%SW+3,6%HW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: time schedule for S3 because less than 5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f B2 Test run will be finished until start of Pilot (07.07.0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am declared M2/S25 on 19.06.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704" t="18238" r="60627" b="34512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762F1-5B1A-4E2E-81AB-59FE74A604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HAWK status at S25/M2</a:t>
            </a:r>
            <a:br>
              <a:rPr sz="2000"/>
            </a:b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oduct House Costs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469800" y="1092240"/>
            <a:ext cx="8356680" cy="5156280"/>
          </a:xfrm>
          <a:prstGeom prst="rect">
            <a:avLst/>
          </a:prstGeom>
          <a:noFill/>
          <a:ln w="2232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9800" y="1101600"/>
            <a:ext cx="8332920" cy="513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216C-BFCD-4177-A53F-D9983AA7CE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A01D-F38F-48BC-8BC4-DDDB01C718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0D25F-EA9A-4A49-BB61-29A0457BA9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03T14:28:45Z</dcterms:modified>
  <cp:revision>144</cp:revision>
  <dc:subject/>
  <dc:title>PowerPoint 簡報</dc:title>
</cp:coreProperties>
</file>